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8632-5EBF-4080-9F12-E5C611B03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2F753-2C26-4A76-AE0D-88AC11D0F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FC76D-BAB4-4AEE-B5F4-4F8B9E1CC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39757-90F1-43DB-B160-3240B65E9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A4120-FAE6-4704-9DC6-20189EE3B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78B30-4490-431B-87C9-054CC0A3C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9DC75-3852-4408-A50D-27221E844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69338-3F52-4D9A-AC2C-C8E00F0BE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B660A-5F26-4661-A35D-716B693B9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0780B-0753-4FA9-9C0C-83E192F51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77C6A-44FD-419E-91B4-5046058F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24FBF-B35A-42EF-AFA6-496CA2ED7E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A1068-AC7D-4E7C-A9A1-7FD205C142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BFFC1-4D16-43C4-B4D6-880AAA38A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D017F-D8F0-468E-B9D7-0FCA0EB05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DA18E-49E6-44E1-8534-B5BC88850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DDBB-4790-4760-A964-68C98564A5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5F9D3-81CD-4A55-973B-AA421624A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95B7-044E-434F-ACB8-18F50FAE2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8804C-76EC-4A66-AC87-B8F1AE977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6BF66-4C0A-4D2F-A8EC-D901D5016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F922-1B87-42F5-B426-05FA5FB35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CDDC-C713-41DA-BFAD-A2C7CE32B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1DD19-3D93-4054-847A-67C0DFF8C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32149-0F41-4807-8ECB-EB920115419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FA555-5652-4E31-928C-22E557854A56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he Data Communications Interfac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itional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2330"/>
          <a:stretch/>
        </p:blipFill>
        <p:spPr>
          <a:xfrm>
            <a:off x="2209680" y="1371600"/>
            <a:ext cx="478152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fac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processing devices (or data terminal equipment, DTE) do not (usually) include data transmission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an interface called data circuit terminating equipment (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odem, N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transmits bit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E communicates data and control info with D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over interchange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ear interface standard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 of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plug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age, timing,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, control, timing, groun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of ev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.24/EIA-232-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v.2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specifies functional and procedur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s other standards for electrical and mechan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A-232-F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S-23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chanical ISO 2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al v.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dural v.2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chan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990720" y="1373040"/>
            <a:ext cx="701028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interpreted as data or control, depending on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-3v is binary 1, more than +3v is binary 0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ate &lt; 20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&lt;1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control, more than-3v is off, +3v is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See table in Stallings chapter 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l and Remote Loopba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10075"/>
          <a:stretch/>
        </p:blipFill>
        <p:spPr>
          <a:xfrm>
            <a:off x="762120" y="1376280"/>
            <a:ext cx="7391160" cy="524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cedur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synchronous private line mod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urned on and ready, modem (DCE) asserts DCE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TE ready to send data, it asserts Request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inhibits receive mode in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m responds when ready by asserting Clear to 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send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data arrives, local modem asserts Receive Line Signal Detector and deliver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67733"/>
          <a:stretch/>
        </p:blipFill>
        <p:spPr>
          <a:xfrm>
            <a:off x="457200" y="1536840"/>
            <a:ext cx="8153280" cy="34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and Synchronou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problems require a mechanism to synchronize the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solu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31162" r="0" b="36707"/>
          <a:stretch/>
        </p:blipFill>
        <p:spPr>
          <a:xfrm>
            <a:off x="457200" y="1515960"/>
            <a:ext cx="8153280" cy="347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l Up Operation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rcRect l="0" t="62194" r="0" b="5681"/>
          <a:stretch/>
        </p:blipFill>
        <p:spPr>
          <a:xfrm>
            <a:off x="380880" y="1523880"/>
            <a:ext cx="82296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ull Mod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6158"/>
          <a:stretch/>
        </p:blipFill>
        <p:spPr>
          <a:xfrm>
            <a:off x="1612800" y="1371600"/>
            <a:ext cx="50929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ISDN Physical Interface Diagram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0885"/>
          <a:stretch/>
        </p:blipFill>
        <p:spPr>
          <a:xfrm>
            <a:off x="2143080" y="1400040"/>
            <a:ext cx="485784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Physical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etween terminal equipment (c.f. DTE) and network terminating equipment (c.f. DC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887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bles terminate in matching connectors with 8 conta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/receive carry both data and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Electrical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d on two lines, e.g.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as currents down one conductor and up the 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ial signa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depends on direction of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lerates more noise and generates 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Unbalanced, e.g. RS-232 uses single signal line and groun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oding depends o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rate 192kbps uses pseudoternar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ate uses alternative mark inversion (AMI) and B8ZS or 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oregroun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from ITU-T on v.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s o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on character at a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 to 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only needs maintaining within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ync with each charac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9630"/>
          <a:stretch/>
        </p:blipFill>
        <p:spPr>
          <a:xfrm>
            <a:off x="1752480" y="1414440"/>
            <a:ext cx="594360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- Behavi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 steady stream, interval between characters is uniform (length of stop ele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idle state, receiver looks for transition 1 to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samples next seven intervals (char length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looks for next 1 to 0 for next ch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head of 2 or 3 bits per char (~20%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for data with large gaps (keyboar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it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of data transmitted without start or stop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must be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separate clock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over short distan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ject to impair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mbed clock signal i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ier frequency (analo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- Block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indicate start and end of blo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reamble and posta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eries of SYN (hex 16) charac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block of 11111111 patterns ending in 1111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(lower overhead) than a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(diagra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58141"/>
          <a:stretch/>
        </p:blipFill>
        <p:spPr>
          <a:xfrm>
            <a:off x="457200" y="3124080"/>
            <a:ext cx="82296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e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arrangement of stations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uter and terminals, local area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may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one data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ultaneous transmission and reception between two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two data paths (or echo cancel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1T10:38:40Z</dcterms:created>
  <dc:creator>Adrian J Pullin</dc:creator>
  <dc:description/>
  <dc:language>en-US</dc:language>
  <cp:lastModifiedBy>Adrian J Pullin</cp:lastModifiedBy>
  <dcterms:modified xsi:type="dcterms:W3CDTF">1999-10-13T14:41:32Z</dcterms:modified>
  <cp:revision>18</cp:revision>
  <dc:subject/>
  <dc:title>William Stallings Data and Computer Communications </dc:title>
</cp:coreProperties>
</file>