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72A4B-5EDD-4059-A1FD-2A4946BA8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620A4-18C5-410B-B187-DCB7483E90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829A7-A1ED-4E51-B5C3-F0A54F7FF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77581-C72A-4A1F-9D5B-24CD6430D5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3B3A6-5B62-493B-A892-43A02403ED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753C5-257C-464D-8689-DB91889D4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E03AA-BBC8-492B-B5C3-1D905CE95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55531-6B06-43C8-ADDD-EE4012A06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F5634-5A12-41F4-A967-049DD6923A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45E7C-BECF-49A5-BBEE-0D22E9BFD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8E8DE-0DA4-4D2A-AACF-8EC7B0071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04AB-2A85-4BC5-AA34-9687DF447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264E25-C977-4E3E-B958-49BD3691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640AE-8BA3-47BA-86CE-AB3835F52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6FE7-BC11-46DD-B809-88748C83F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267ED-B6CD-4000-BE68-9761CA57F6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4DE1E-B960-4362-8A07-72C30AF0F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3B453-E820-4BCF-B955-B5A19875C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4E94-4C88-43ED-870D-7F6C81E82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E908-F369-4054-8516-B2A4CDF1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CEA5A-8A69-4F6C-B939-4E71ABD78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9E4A5-4217-44A2-A6C0-9C1E6D6A7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04EF-EC3D-4669-B47C-5156F4AD61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5F456-4D3C-4930-9CCE-D9A43D8581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20679C-43E1-460C-B47A-33431DEF1AD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0D8D2-B952-43A6-AE0A-85C3D8094A6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shielded and Shielded T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shielded Twisted Pair (U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inary telephone wi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st to inst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ers from external EM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ielded Twisted Pair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al braid or sheathing that reduces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er to handle (thick, heav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TP Categor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grade found in most off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of 7.5 cm to 10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20 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t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1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ly pre-installed in new office building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ist length 0.6 cm to 0.85 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ar End Crosstal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of signal from one pair to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upling takes place when transmit signal entering the link couples back to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.e. near transmitted signal is picked up by near receiving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20412" r="0" b="47008"/>
          <a:stretch/>
        </p:blipFill>
        <p:spPr>
          <a:xfrm>
            <a:off x="685800" y="1676520"/>
            <a:ext cx="7772400" cy="33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versatile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 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iel to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ble T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10,000 voice calls simultane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ing replaced by fiber opt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distance computer systems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axial Cable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few 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if higher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500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1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r for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60246" r="0" b="10168"/>
          <a:stretch/>
        </p:blipFill>
        <p:spPr>
          <a:xfrm>
            <a:off x="533520" y="1973160"/>
            <a:ext cx="8381880" cy="32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Benef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s of hundreds of G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er size &amp; we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attenu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magnetic iso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repeater spa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s of km at le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-haul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ropolitan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ural exchange 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 as wave guide for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5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Hz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ions of infrared and visible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ght Emitting Diode (LE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er operating temp ran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st long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jection Laser Diode (ILD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velength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vervie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ided - wi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- wire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and quality determined by medium and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uided, the medium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nguided, the bandwidth produced by the antenna is more importa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concerns are data rate an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cal Fiber Transmission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9525"/>
          <a:stretch/>
        </p:blipFill>
        <p:spPr>
          <a:xfrm>
            <a:off x="609480" y="1679400"/>
            <a:ext cx="7925040" cy="517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and reception via antenn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eful alignment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spreads in all dir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received by many antenna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GHz to 40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wa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ly 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tell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0MHz to 1G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o 2 x 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restrial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bolic dis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cused b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haul telecommun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er frequencies give higher data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tellite Micro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is rela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tellite receives on one frequency, amplifies or repeats signal and transmits on anoth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geo-stationary or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ight of 35,784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ele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vate business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Radio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mni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M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HF and VHF telev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ffers from multipath 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l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ra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e noncoherent infrared ligh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of sight (or reflec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ed by wa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V remote control, IRD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Fa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bandwidth gives higher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impair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receiv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guided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receivers (multi-point) introduce more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ctromagnetic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7401"/>
          <a:stretch/>
        </p:blipFill>
        <p:spPr>
          <a:xfrm>
            <a:off x="762120" y="1676520"/>
            <a:ext cx="7619760" cy="503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uided 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rcRect l="2349" t="0" r="16196" b="81868"/>
          <a:stretch/>
        </p:blipFill>
        <p:spPr>
          <a:xfrm>
            <a:off x="380880" y="1752480"/>
            <a:ext cx="8305920" cy="244800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comm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house and local exchange (subscriber loo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private branch exchange (PBX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local area networks (LA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Mbps or 10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work wi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ort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isted Pair - Transmission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fiers every 5km to 6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ither analog or digital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eater every 2km or 3k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bandwidth (1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data rate (100MHz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interference and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15T12:24:05Z</dcterms:created>
  <dc:creator>Adrian J Pullin</dc:creator>
  <dc:description/>
  <dc:language>en-US</dc:language>
  <cp:lastModifiedBy>Adrian J Pullin</cp:lastModifiedBy>
  <dcterms:modified xsi:type="dcterms:W3CDTF">1999-10-13T14:41:49Z</dcterms:modified>
  <cp:revision>26</cp:revision>
  <dc:subject/>
  <dc:title>William Stallings Data and Computer Communications</dc:title>
</cp:coreProperties>
</file>